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805-CF36-46AC-9EFB-661CAAA5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1DB-20E0-4C49-8423-428A9B5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8F6A3-EE2D-4E40-8A15-F818AAED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4DCC-CF63-4083-8EF2-968570F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D6756-41DE-48E6-B56D-CD5B5A0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D2F20-505C-49F7-AB16-B957955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3936E-5016-4897-A12C-D34BDC9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67CCB-CC28-4AF1-AA6A-A86173A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3BFE1-1851-49A8-BC64-22B111F4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27B37-BBA0-4303-8E85-4C372AC4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34790-5563-4C93-9FAE-E4BA6543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EB422-C0F3-4792-91A6-BCCB5D3B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A77-2475-4310-A742-3062E211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C19C6-5889-460A-AB7B-FB898EF6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F31BF-323B-4253-A88C-3AF403B4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055DC-18BF-4CE6-926A-0B5DBD1D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BDC62-EFB4-4A3F-85E6-55B9490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7D875-E7E5-40B8-A38F-BF98196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659C-ED87-4638-8C75-19E80E5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A324-2D7D-4E23-B353-F4BFCA20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22226-6172-4D52-A575-D41B1E6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657A9-5D3E-4ACB-A6F4-0D98CC3A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279B2-24B2-4479-8D85-01304CB2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71E-05BF-4602-B33D-B15E7E94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70C5-AA55-47A1-92C6-DC98907D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8ACF-B110-4DED-A495-F1E4FD1A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0EC59-ADB1-4D2E-B908-75FE1723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A3B70-81D9-437E-BA2E-63DE6E84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F4EB7-BBAC-43F9-BE04-48EE99A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B005-B4F6-442B-BB71-6513786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88201-0688-4A61-A295-28684D2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667C1-C9C0-42AF-B352-1BCF72C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DED7-566D-42FC-A155-D56AD67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85F6-E82B-4FAD-A86D-2BEB215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895-706F-49B7-93C7-94E7437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C05A-633C-4A79-A8A6-CA62044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4CF30-20A3-4932-8657-E8D468AA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45642-4D46-4B9B-89F9-E4F5062D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8CD24-9034-478E-8287-ADDF8490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6370-B289-4FAA-ADE6-1263CFB8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09E34-AA22-454C-B109-9388FF2E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474EC-52B8-48E1-AA24-2ADCEF54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0FBD0-0F81-4A74-8575-94289E5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E6589-C81E-4440-AA64-45EB0BE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1B0A5-6ACC-486A-85D6-887F3A9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C00-97FC-46E5-A2E7-E0318F2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EFB2B-CA2C-40A1-A2CA-43FA0A7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B7148-B4E8-46DF-8101-6BFCE5A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266D0-4E3F-41C6-A4A3-7DFE78C6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01E35-1E07-4557-A84B-019FFD83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0BBC9-F99B-4548-BA1E-420D8BD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408A7-2E16-4169-8B2A-49C5E817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BF2E1-D217-4A6B-B4A8-4643FD0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CD146-FAEC-4818-9F9F-8AE22E13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C039A-75A0-4CB6-ADF8-6458125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F538F-0EEB-457A-9643-DA6A10B8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002-5B8D-46CF-A4D9-0B757E09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3467D-318B-4E8F-B5AA-0FCB9B30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2685C-0C15-4F45-800D-7E7913F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31EB1-7A62-4722-B352-194158A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05A35-B561-4011-9733-22B1A4B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201A1-64D8-45EF-B238-7D574B75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F2BDD-4049-4893-A66F-4CFA7443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32865-7958-4DAD-8BD5-9731F581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E0CAE-404B-482B-A927-7B424FF9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6A86D-9476-4D5B-930F-2CDF024B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65F05-9192-42F3-9C0D-BB0D01EB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40F3-3263-4C69-BEBA-DA1D819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CA27D-D202-4944-8D0D-124A2F8F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10301-DF1A-4F57-9BF9-D81EFF6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5E316-F527-40E7-954D-C75547C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25690-BFD8-4E79-BACA-C29E781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E1576-559A-439F-B6EC-C46CBA2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17758-68BE-4D3A-9E26-C56B5B1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150A2-FFB1-4A20-9ADB-C82FE2B8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24330-B0F9-4279-B4D2-2566A686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622B4-19F5-46EC-BE92-5A293320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23C93-6073-41A4-B246-43142B39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6F4-BA26-4C4A-A859-BEC47B0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B8AAF-C898-4D17-9AE4-B3FD3DE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1809D-0FFF-4807-8ADA-62BE7A39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C6C88-B167-4C51-A0FA-E20972ED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DC55B-75A3-4790-AC30-5115682A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80509-79CE-474B-BB8C-FFD4298A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AA8AB-B17A-41FE-8973-D790CCB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5B9C8-82AB-444E-BB45-7B18BF9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9E891-FBC8-4140-AA77-6CC914E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5CE0B-A422-4BDE-9E7A-D1A4510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83FF7-2D37-45F8-A41F-C1299E9F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2092-7F74-41C8-B825-1676063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7653B-0D3D-4046-BBBE-8DC52C48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6B551-3E60-48C0-B29B-E5FD5C79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CC3DE-B06E-45B0-8D69-9B81C49E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0BDFA-46CE-4760-B26A-259586E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BCEBD-3D84-46BC-8CE3-4DE1E97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2590A-D6F2-40E4-BAB8-DD80A89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F16A6-C72F-45B1-8967-3BE7BE2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E5C19-DACE-48D8-8B15-0FFA24D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413EB-4359-4F06-BBE5-84C9D1B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95F95-536A-45A9-939D-EE72202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B696-9B86-4DE7-ACAB-6C14D19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F22DF-190F-4F35-9A03-3AF89623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CB40E-D928-420D-B072-EECD7095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55DDA-2737-4FFD-B5D8-7F61F5FB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5A873-E109-4775-B8F7-A03216D9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393AB-EBE5-48C2-B18C-3F46C7B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EC2E9-C0FD-4FA8-A85C-B3B278A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5B2EF-86C1-4BD1-BB79-4D88DF63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6A42F-EBA1-4B78-988C-2067DFD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45AC1-9B79-40F3-980B-F4A387D1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73992-F9B0-4E0C-BDCC-5CFB639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AB3-5320-42ED-A0FC-DE66D8B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8DD2-7DAE-4708-B802-D5D7D3D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9F9DC-AFA4-4AFC-8CE1-C35C743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4488D-8D1C-4F24-B3EF-D51DF45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146CE-627F-4907-B237-7E199A84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165F2-B273-488B-BD5C-048FD162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4ACA4-096B-4279-B201-7D5CA607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DE864-53D2-4504-A387-37F743D5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00FDF-081C-4AA6-AFEB-7D45D3A3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A677A-A539-4FE3-A39E-A2AF5B9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2C1B7-6FAC-4EF4-94CF-3E5B1FF6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6B143-6EBE-4A6C-8E95-93ADB04A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BA8-EE7B-46AF-B957-CD00A7E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90D62-E7EB-4E42-B5AC-F7EFA09A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64176-DFEB-4934-A791-9EA113C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C16A9-9072-4A4E-90D7-616F1B9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3E02A-96B5-4814-8F7B-BCF75B6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44150-3EC1-4EF5-8922-B3273BB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C14F3-1FF9-461E-A97B-9C05E7BE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1CC93-0831-40B7-9AAA-BBDFCC0B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6EE8C-F575-4781-B6E9-0E1006F8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FED65-3FF1-4FEA-8B30-C7E1888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2F776-7970-408B-A9C1-98B0A3E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0E53-AF95-4941-8034-05A7025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B584D-5505-421E-9F5A-4BFAA608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723AE-D767-41A0-A248-0E6AF86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0AF10-C27E-4C8B-B75A-85B441A9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FCF07-65FD-47C1-92C0-441F6BE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0839E-B688-4469-AA5E-F272D18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D5221-05A1-481D-8BAC-8DD20A1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6FDF0-8D74-4533-8E9E-6022C8F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3F6DF-CF7D-47C3-9A95-B09B354C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E9D386-3ABA-483E-9816-1A1CB481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F952A-2011-4E55-80D7-C0BF726A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CBA6-ECD1-49E0-BC2F-C5737BF3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30B493-068C-4BF6-BD77-5D24E3C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B1042-68E2-41C6-BD12-A27B467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BDEA0-C9AE-4381-8D6E-7A8633BF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79ECC-118E-40DF-8BB0-F28DF7C8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16BCF-4255-435F-87D8-8E79AD76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28549-9A30-4D76-88B9-9853839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4EE69-7E4C-44B4-974F-97DAC1D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1BBFA-952A-4AEB-AEEF-E12E9A04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63725-520F-471D-A5AA-DE32521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2CB8A-78E7-4B0E-9235-496948F2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4A14-FE4E-4747-9C9A-81E41D4E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F7194-FA67-4F56-9D49-FDBA2C7C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E73C3-7046-4CD1-BCC5-F0F5BAD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A8E3E1-B7F3-4CF2-BAB4-3A79FD45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26FA6-12CF-4D62-B8E3-338F32B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86C3E-C569-41DD-9D9E-524BC77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7E2C3-BB0E-400F-A1C0-900E23F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73F00-52A8-4F60-917A-716E3040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F6D9A-C30F-41D9-9D88-DFA26DF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36FA7-2C33-485D-95D7-0B48F0B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85ECC-F844-41E6-86C3-BA9B75C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8ED8-4177-4588-A65A-8C55C9B2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73372-B0F8-4982-9A5C-D73F5CE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F1032-E0B9-4124-A2F7-C62EF5C2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55F61-45FC-452E-A5F6-C090832C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CBD34-D193-4804-A06C-4C9A4C10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F1987-4949-440F-A18D-22F7B2BD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FFE3A-0B29-494D-B10E-433B0840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C032E-7782-4BC5-A70C-4DB7608B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2EB8B-21F3-4E0E-A448-6809E75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17053-CB8C-48FB-B14B-57868E5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D861E-E04B-47F5-95B8-E6E9938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5903-1141-4CA7-84AE-B72F30F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EF4B2F-0660-4736-A12F-0306FB8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72746-0D6F-44BF-8613-299B8B0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9FEF9-92E1-4788-8795-AAAB4246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F9DAC-FC9F-421C-B323-934BF563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EBEAB-5C38-4A08-829D-0FA16827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091B26-EAAA-4174-A805-CF76523B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DAAD8-D27C-4EBC-959A-8491ABD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305BF-339A-4D3F-947B-2ADF235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D4543-B147-43F7-A050-42D8873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6C8FC3-2041-48A6-BB23-D0396B10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867A-C2CA-460B-8851-81C88980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09318-421F-4922-93C6-26D9895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E06DA-5A47-433B-A2D5-22BBE12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19EB64-2FFE-41D5-96E6-0AE4E4F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D169B-553B-4E38-811B-602A1F9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4AEE9-4EDF-4B42-9E80-2BF8CE5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822B0-A553-4D27-BCC7-D0109370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7761F-AE8F-441A-BFEA-7CC4EFA7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6AFDD1-A059-4DDC-B825-86CF06BB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B1187F-1F23-474A-8D89-ACB259EA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B94FB7-E1C9-4900-9568-9C239E2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618E-03A5-40BD-9200-D431FB4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5189B-6BCA-4387-8E3D-8E93A23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4C0DFF-0320-4D8A-B3D1-853D041B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3B367E-F9A9-4864-8F0A-6C4C39DE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F79917-7DC6-42D9-9C29-522CD35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4F634A-3EB0-4DAE-A42C-4938573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9B0B5-43F2-424E-8027-F226C37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47B51-E42E-41E1-B8E5-F1744F74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F716B9-BB38-46EA-A6A8-AA352E63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6B8D72-1461-460E-8AB2-ACDEFC9E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A8829-2884-4343-9DC9-1FCA4D0C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34D8-0A05-46E4-B2BD-1480727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AEF28-577A-42A3-ACB1-D4B017B9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C164A4-5769-4B6E-8540-01F19E3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CA675-031F-4152-8A4B-B0E1F95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5B919E-33BE-4EA3-97D8-8E98C07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953299-8C92-492B-81F2-466F929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E8CCFC-80FF-4DD1-AA4B-2921E12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7FA15-4274-4574-B478-C5D4DC2A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A2EC71-3519-439E-BF2F-8AD10AF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C42743-6391-4168-A092-6F6E193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50ED18-4475-4F05-A79B-9845441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424-6C3B-406E-8A49-FD04340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B425-BB14-431B-B50F-D2EDF01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880C9-661B-45B7-9248-15918F28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6F5C39-D416-4ABF-A9C2-0D6897A7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CE559-1552-41B0-A814-05F186E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2D092D-07CE-4468-9E6E-85FDAAA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39606A-3429-4427-AD01-B684818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5265F1-9CEC-4FBE-9DFB-CF34801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E6FD15-6A91-4632-97B7-3A598D6D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5D087C-4BE3-46A3-877D-2C6F7F0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282C15-8C50-4E10-8073-BF3560A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ECD290-55FB-4E98-AC5D-354C176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5EC9-BF49-451E-B285-603195D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A676C9-96D4-4017-9D85-23F80BE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458FD-7CB6-4F44-9924-3253A89F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A29D46-A0A4-44F2-A789-7379713B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3BC163-7A31-49F4-9330-5C0EAC7E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FFA1E3-7CAF-47B9-8994-C30497C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9176D9-0CB5-4008-82BD-846D024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17C238-97F6-4D60-87D6-E651924E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30D41-C4D0-4E46-857B-12AA3512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057809-43C8-4E67-B0E7-739A90C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12888-B4D3-45C8-8D8C-FF1B6F8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DD2E-EAF5-4FCA-87DB-5D34418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A0DCEC-C3F4-48D9-88B2-E65407E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AB9CF9-FD1A-46DA-9DC0-B77077B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7274FD-68CA-4074-BA04-F3B0F8C5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81881B-B914-448C-B5CC-37288B98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A0ACE4-40FB-4DCD-8F58-FE2E9BC9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3DADCD-4B26-4E71-B4DA-82320635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BFF45B-3A47-4076-84EA-8DEF633C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6D1B82-4FA9-466C-80C7-B37D7883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B94AA1-51F3-4A2D-85D7-7BDA2FA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A03B12-AAFA-42A6-BB41-2B8AF53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25BD-F6C7-4C47-9FAB-6DE8CE72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9CE310-67E4-457D-AE15-31BF0FA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445702-238B-47DB-9C40-6DE4FAF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5645B9-A4A9-4DB6-83BE-CC4F513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0CB027-6F01-4BEA-B7AA-5CC1B26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48D2FD-5BA5-40BB-8A62-17DB62F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352181-90DB-486F-A29C-E9C4ABE6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814CE2-DF05-4EE2-88B2-545C8E5B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C802EB-8161-4F2B-BEB4-2BB2E8EB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BE53E6-75D3-4F8D-9DA2-D36FC91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4260D1-8DE8-4031-AD2B-75A6ECFA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78F6-04F3-4E8F-A0D0-E12EE32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4537CB-2692-4B7C-ABEF-16408C7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C1573E-7821-4A5F-8C4E-5293F7E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7B03A-40C9-4732-8633-6F3C452E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94382E-9D62-4CF4-A77C-F6875DE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A0C50A-C3FE-459B-B9FB-8879204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27F39E-E262-4B3F-BE4C-5F3BA800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201D40-85C3-48D4-ADEF-0344C98E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28AAD7-6169-4521-83FD-FD2097F0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3607A5-4389-4A7E-9B6A-56B125D3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870486-4004-49AA-9B52-DE09AAFC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B69D-F5A0-4A4B-89DE-25118214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B9EB41-07CD-40DD-8C19-F06D6AA3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507A7D-9DBA-4789-B3D7-39E57065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E87D5D-DDFC-4197-B680-AC5239B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1ABC13-F6C2-4262-A3DB-4DD0104B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980249-A3EB-4812-B81A-A7828869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E6B1CC-9477-4544-BD2B-489F002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14E6AB-DD1F-4476-8AB5-9FD2D092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4D59D9-3477-48C8-9E8F-396A706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710CA6-CA16-4B15-B27A-A0950629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E0F909-E708-43B8-8DAA-9447BF2F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6E42-B364-4626-ADA1-CD86DCCD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74D6BB-FB69-4E71-ADA0-C76FFB02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087767-481C-48B3-BED7-447D1CAC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57872F-3BB3-426C-947F-23F19D1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7118B5-4CD5-4FF9-9AF3-BDE10C7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C37BA7-6DEF-45E9-9BB7-8A671735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8C53D4-0E92-4659-9EB9-599DF15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1D8457-A074-47A7-9677-91876A8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C92F6B-B5B5-4D2E-9905-981CAFE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CE7A02-EBA1-4F1D-B038-4316F57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42206B-98EB-4F7A-A4F4-8EB9581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5218-78AF-4647-B6A7-0B844FC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8DE63A-37AB-4D7A-AADB-1F3F06F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590F45-5E6A-4881-9FC5-33FE6C1C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108F90-2950-423C-99EF-D94E3CD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88F2-94C1-4C4F-80E6-02AADB39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1DBD-065F-4A1B-9706-36A407D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9AD-0818-46EA-A587-D85E991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708E-6077-42D3-B493-DC16128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DD95-86D0-49C1-B4C3-5E6B9D9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6B0A-C7E8-480C-8E5E-D3309857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574F-51BD-4B7B-BDA0-5743CB23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ED69-6AFB-48BA-B90F-2DF53116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EDF3-BC8F-4A16-868E-49DC14E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BD0F-2FD9-42CE-8D53-A5A036A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3673-9903-4968-9900-ED721DF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4473-43B4-4B8A-9E2E-C5DDE9CA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1B63-3FD1-4EAB-A05B-958B360A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BA1-3B10-47CD-9FA9-7AC33192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D55F-58D3-4D77-8AA3-5A61322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77A9-A486-4658-97A2-D6ECB98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466E-8687-4C88-9AE9-51EDAB0C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4932-969D-4E4A-ABD5-36FBCA7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EBE9-A940-434D-A941-508196A4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1BA2-31F3-4D8D-AAA3-1F131DA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A905C-6A0B-4FE9-A9A0-74A38AF0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2DF7-0266-4B99-ABF5-77F25CB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A6193-F0C3-4EDB-84ED-9ABE33C4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0317-45D0-41DB-9BBD-04CE2957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F35-A6C5-41F5-8194-097C1AEE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9015-7C21-4628-8F59-3E438380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7589-C781-4BF9-B9D1-1E54F74F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B02E-51CC-427A-B738-9E17D33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95B3-B857-4002-B9F8-333FA0D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3A44-C5D1-4ED7-BD75-4A82FEE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72E9-0922-4D17-8BE9-142D654A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76D5-A0BF-45E9-8700-CB59F4E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16EB-D188-43C3-8BA0-55109D6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CF762-0EEA-49C7-8568-C2A9760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7F20-3574-4006-A366-12EF78ED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97E-1E58-42E0-944C-42AB703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6CA8F-E7E1-410A-B8C5-AE818AA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861B-10BA-48B8-94D1-4C280BC6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6DBD-6278-4E3C-A8D0-43BC8A17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E31B-BB04-4B02-89BC-EE870E37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2EFC-6350-40A6-964D-BC5F333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2F5B-0921-4533-8DEB-16853745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6A94D-307A-4283-AD76-78402BC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976E-2FF9-4FAD-9E9B-2944E907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5A86-C8E4-4ABA-813C-11A416D6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0AD3-C43B-4F70-974A-9A4F3E1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6A4-B5DE-4F0E-9006-25F4EB1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0F1A-291F-4A25-A2BF-214080B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772F-A8CA-42CF-B079-00F62CD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805FD-EF30-41DF-B472-124F7D7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879A-506C-461A-814A-7F8B218F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2D56-8A9B-44C8-83A6-933A87FF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A103-E1A6-4753-9026-7879E661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9128-7472-4274-9A77-562F280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8B1A-BFAF-4683-8CF3-7C7F53F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3AB1-563D-4712-B26A-BD08B2F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A02C4-0732-4C4A-82FE-ADC70DE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91E-2517-483C-B5E3-D5DB5E7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A059-AFF3-4C86-ADFD-F43FC1ED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E0D5-326A-4BDE-8532-4AF9994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0E8CB-7808-437C-8F0B-66C03CE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3EA6-FD61-413A-ADFD-062F9B6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4148-6E3C-459D-A592-1DB9DB7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588A-28E4-448E-BA79-CC6F0CFE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0F8D-DECF-403C-9CA9-D199DB6B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22EEF-E870-4999-9C53-C38314BA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FE697-FD8D-462A-9CE8-DD7E9CD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E485D-E822-453A-AD39-B761B41B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7EB-8A9E-44F9-920F-364FF8649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3FFC-2978-4C72-9243-E306E1026C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D2A-2A50-4435-868D-B9B0C82BC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C115-91BC-4DDF-8691-8F86C7E6C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A9A-1139-4D45-9AA1-5D2946542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5E4-BE0B-4F8C-BA0C-F06B7ECE6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9B75-9797-477F-A338-0B14DCC6C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A98-4EC5-4167-8A6B-F5E22C5E7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5A5-F405-4550-8270-2068C44E5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8BA-A2B6-45E6-84DB-D89103702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85F-CC7B-4490-8BC7-5AF66003A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F46-E481-4A7D-92ED-9811CC9A1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093-138C-48A7-9001-42B1CF8C7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8755-452D-41D9-899B-5A1AB4679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CA99-A207-4F95-A314-CF8A013A58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D314-EAF2-49E4-BB93-C4C9DC1A4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5FF-02B6-483A-80E0-E5CA33714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7BE-24FB-48EB-B2CF-63F33CAD0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B3B-98EA-4A5B-A17E-CF1C0DB19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5A03-0939-43A6-A3BC-17CC72EE8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C3C6-16DE-4FD7-B844-FE09F159E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42E6-DE93-49E0-A7CA-A2C88AA4E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58B-E248-43B9-B84D-89128DFBE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FA5-9C5A-41CC-9D5C-D940134FD2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6CC-5E9B-4552-BE9F-2E697A7BD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9B50-9B77-461D-A04E-AC51EF8E3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30F-3FAD-42C7-8803-F6635BFB3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24D4-5479-4F1A-83EA-FD5CB5B17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5ADD-46D2-4C98-B3F5-D066106C1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535-73B2-41E5-AABC-E5C4F350E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681-463D-461E-9E7B-49478A285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DA1-DF5F-4BC9-B288-0D8FE5A9F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C06-474E-46D9-99E4-EB7E5AD79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96C-C77A-4A52-92B3-612A4F85A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497-7315-4419-8135-C4A762FEB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576-A6A0-4A1B-8F05-FEC6B343B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13CA-BA28-4E27-BDDC-FDB7EF369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6A7-2177-48D4-87F4-2BD584A97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F7FA-BB52-4137-8537-BF21BB8F3B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EDC4-B74C-47CF-8817-53120F219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2BC-6F38-49DB-BFA5-46958BD21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979-3E8C-4DA1-B0F3-1F2A333B0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C160-2F75-4D13-94AB-B9F7349D1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901F-5A9B-4703-ACD6-7AE68646BB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869-72FF-4DB0-BE11-5B27319513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7038-3F72-45BA-8F88-9B562F1D7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384D-BB52-49E3-B6C2-0CBF3DD1D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E92-3459-45CD-AD52-47E493318B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3AD-BE2E-496F-87D2-8F8402675C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976-E433-4CDB-8AA2-40F6A15129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943360" y="1047600"/>
            <a:ext cx="2647800" cy="13338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890800" y="2735280"/>
            <a:ext cx="3057480" cy="402912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986280" y="65340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图片 132097" descr=""/>
          <p:cNvPicPr/>
          <p:nvPr/>
        </p:nvPicPr>
        <p:blipFill>
          <a:blip r:embed="rId1"/>
          <a:stretch/>
        </p:blipFill>
        <p:spPr>
          <a:xfrm>
            <a:off x="201600" y="912960"/>
            <a:ext cx="8105760" cy="23907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32098" descr=""/>
          <p:cNvPicPr/>
          <p:nvPr/>
        </p:nvPicPr>
        <p:blipFill>
          <a:blip r:embed="rId2"/>
          <a:stretch/>
        </p:blipFill>
        <p:spPr>
          <a:xfrm>
            <a:off x="770040" y="3413160"/>
            <a:ext cx="7629480" cy="295272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32099"/>
          <p:cNvSpPr/>
          <p:nvPr/>
        </p:nvSpPr>
        <p:spPr>
          <a:xfrm>
            <a:off x="2928960" y="3452760"/>
            <a:ext cx="10699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2100"/>
          <p:cNvSpPr/>
          <p:nvPr/>
        </p:nvSpPr>
        <p:spPr>
          <a:xfrm>
            <a:off x="2917800" y="4059360"/>
            <a:ext cx="252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2101"/>
          <p:cNvSpPr/>
          <p:nvPr/>
        </p:nvSpPr>
        <p:spPr>
          <a:xfrm>
            <a:off x="2928960" y="5014800"/>
            <a:ext cx="28987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32102"/>
          <p:cNvSpPr/>
          <p:nvPr/>
        </p:nvSpPr>
        <p:spPr>
          <a:xfrm>
            <a:off x="2836800" y="5621400"/>
            <a:ext cx="45226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31073" descr=""/>
          <p:cNvPicPr/>
          <p:nvPr/>
        </p:nvPicPr>
        <p:blipFill>
          <a:blip r:embed="rId1"/>
          <a:stretch/>
        </p:blipFill>
        <p:spPr>
          <a:xfrm>
            <a:off x="826920" y="1239840"/>
            <a:ext cx="7591680" cy="290520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31074"/>
          <p:cNvSpPr/>
          <p:nvPr/>
        </p:nvSpPr>
        <p:spPr>
          <a:xfrm>
            <a:off x="2711520" y="1366920"/>
            <a:ext cx="311292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31075"/>
          <p:cNvSpPr/>
          <p:nvPr/>
        </p:nvSpPr>
        <p:spPr>
          <a:xfrm>
            <a:off x="2906640" y="2311560"/>
            <a:ext cx="546588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31076"/>
          <p:cNvSpPr/>
          <p:nvPr/>
        </p:nvSpPr>
        <p:spPr>
          <a:xfrm>
            <a:off x="934920" y="3227400"/>
            <a:ext cx="2694240" cy="8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图片 130049" descr=""/>
          <p:cNvPicPr/>
          <p:nvPr/>
        </p:nvPicPr>
        <p:blipFill>
          <a:blip r:embed="rId1"/>
          <a:stretch/>
        </p:blipFill>
        <p:spPr>
          <a:xfrm>
            <a:off x="237960" y="912960"/>
            <a:ext cx="8210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图片 129025" descr=""/>
          <p:cNvPicPr/>
          <p:nvPr/>
        </p:nvPicPr>
        <p:blipFill>
          <a:blip r:embed="rId1"/>
          <a:stretch/>
        </p:blipFill>
        <p:spPr>
          <a:xfrm>
            <a:off x="915840" y="985680"/>
            <a:ext cx="4467240" cy="4505400"/>
          </a:xfrm>
          <a:prstGeom prst="rect">
            <a:avLst/>
          </a:prstGeom>
          <a:ln w="0">
            <a:noFill/>
          </a:ln>
        </p:spPr>
      </p:pic>
      <p:sp>
        <p:nvSpPr>
          <p:cNvPr id="1405" name="矩形 129026"/>
          <p:cNvSpPr/>
          <p:nvPr/>
        </p:nvSpPr>
        <p:spPr>
          <a:xfrm>
            <a:off x="1057320" y="925560"/>
            <a:ext cx="41194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9027"/>
          <p:cNvSpPr/>
          <p:nvPr/>
        </p:nvSpPr>
        <p:spPr>
          <a:xfrm>
            <a:off x="1015920" y="1541520"/>
            <a:ext cx="41194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9028"/>
          <p:cNvSpPr/>
          <p:nvPr/>
        </p:nvSpPr>
        <p:spPr>
          <a:xfrm>
            <a:off x="1200240" y="2166840"/>
            <a:ext cx="3965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9029"/>
          <p:cNvSpPr/>
          <p:nvPr/>
        </p:nvSpPr>
        <p:spPr>
          <a:xfrm>
            <a:off x="1004760" y="3111480"/>
            <a:ext cx="39657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9030"/>
          <p:cNvSpPr/>
          <p:nvPr/>
        </p:nvSpPr>
        <p:spPr>
          <a:xfrm>
            <a:off x="2332080" y="4079880"/>
            <a:ext cx="1366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9031"/>
          <p:cNvSpPr/>
          <p:nvPr/>
        </p:nvSpPr>
        <p:spPr>
          <a:xfrm>
            <a:off x="2125800" y="4703760"/>
            <a:ext cx="26492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图片 128001" descr=""/>
          <p:cNvPicPr/>
          <p:nvPr/>
        </p:nvPicPr>
        <p:blipFill>
          <a:blip r:embed="rId1"/>
          <a:stretch/>
        </p:blipFill>
        <p:spPr>
          <a:xfrm>
            <a:off x="446040" y="896760"/>
            <a:ext cx="812484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图片 126977" descr=""/>
          <p:cNvPicPr/>
          <p:nvPr/>
        </p:nvPicPr>
        <p:blipFill>
          <a:blip r:embed="rId1"/>
          <a:stretch/>
        </p:blipFill>
        <p:spPr>
          <a:xfrm>
            <a:off x="890640" y="947880"/>
            <a:ext cx="7057800" cy="1533240"/>
          </a:xfrm>
          <a:prstGeom prst="rect">
            <a:avLst/>
          </a:prstGeom>
          <a:ln w="0">
            <a:noFill/>
          </a:ln>
        </p:spPr>
      </p:pic>
      <p:sp>
        <p:nvSpPr>
          <p:cNvPr id="1413" name="矩形 126978"/>
          <p:cNvSpPr/>
          <p:nvPr/>
        </p:nvSpPr>
        <p:spPr>
          <a:xfrm>
            <a:off x="861840" y="955800"/>
            <a:ext cx="516744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26979"/>
          <p:cNvSpPr/>
          <p:nvPr/>
        </p:nvSpPr>
        <p:spPr>
          <a:xfrm>
            <a:off x="800280" y="1511280"/>
            <a:ext cx="5167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26980"/>
          <p:cNvSpPr/>
          <p:nvPr/>
        </p:nvSpPr>
        <p:spPr>
          <a:xfrm>
            <a:off x="831960" y="2085840"/>
            <a:ext cx="73659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428760" y="950760"/>
            <a:ext cx="7677000" cy="4981680"/>
          </a:xfrm>
          <a:prstGeom prst="rect">
            <a:avLst/>
          </a:prstGeom>
          <a:ln w="0">
            <a:noFill/>
          </a:ln>
        </p:spPr>
      </p:pic>
      <p:sp>
        <p:nvSpPr>
          <p:cNvPr id="1335" name="矩形 140290"/>
          <p:cNvSpPr/>
          <p:nvPr/>
        </p:nvSpPr>
        <p:spPr>
          <a:xfrm>
            <a:off x="1314360" y="212724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1"/>
          <p:cNvSpPr/>
          <p:nvPr/>
        </p:nvSpPr>
        <p:spPr>
          <a:xfrm>
            <a:off x="2681280" y="212724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2"/>
          <p:cNvSpPr/>
          <p:nvPr/>
        </p:nvSpPr>
        <p:spPr>
          <a:xfrm>
            <a:off x="3871800" y="2127240"/>
            <a:ext cx="474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3"/>
          <p:cNvSpPr/>
          <p:nvPr/>
        </p:nvSpPr>
        <p:spPr>
          <a:xfrm>
            <a:off x="1335240" y="2558880"/>
            <a:ext cx="8334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4"/>
          <p:cNvSpPr/>
          <p:nvPr/>
        </p:nvSpPr>
        <p:spPr>
          <a:xfrm>
            <a:off x="2722680" y="2558880"/>
            <a:ext cx="8334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5"/>
          <p:cNvSpPr/>
          <p:nvPr/>
        </p:nvSpPr>
        <p:spPr>
          <a:xfrm>
            <a:off x="1252440" y="297972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6"/>
          <p:cNvSpPr/>
          <p:nvPr/>
        </p:nvSpPr>
        <p:spPr>
          <a:xfrm>
            <a:off x="2382840" y="297972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7"/>
          <p:cNvSpPr/>
          <p:nvPr/>
        </p:nvSpPr>
        <p:spPr>
          <a:xfrm>
            <a:off x="3348000" y="384336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8"/>
          <p:cNvSpPr/>
          <p:nvPr/>
        </p:nvSpPr>
        <p:spPr>
          <a:xfrm>
            <a:off x="3306600" y="4273560"/>
            <a:ext cx="833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9"/>
          <p:cNvSpPr/>
          <p:nvPr/>
        </p:nvSpPr>
        <p:spPr>
          <a:xfrm>
            <a:off x="3348000" y="512604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300"/>
          <p:cNvSpPr/>
          <p:nvPr/>
        </p:nvSpPr>
        <p:spPr>
          <a:xfrm>
            <a:off x="3327480" y="556740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301"/>
          <p:cNvSpPr/>
          <p:nvPr/>
        </p:nvSpPr>
        <p:spPr>
          <a:xfrm>
            <a:off x="6964200" y="3852720"/>
            <a:ext cx="8337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302"/>
          <p:cNvSpPr/>
          <p:nvPr/>
        </p:nvSpPr>
        <p:spPr>
          <a:xfrm>
            <a:off x="6902280" y="4264200"/>
            <a:ext cx="833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303"/>
          <p:cNvSpPr/>
          <p:nvPr/>
        </p:nvSpPr>
        <p:spPr>
          <a:xfrm>
            <a:off x="6923160" y="4705200"/>
            <a:ext cx="8953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304"/>
          <p:cNvSpPr/>
          <p:nvPr/>
        </p:nvSpPr>
        <p:spPr>
          <a:xfrm>
            <a:off x="6985080" y="5146560"/>
            <a:ext cx="833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40305"/>
          <p:cNvSpPr/>
          <p:nvPr/>
        </p:nvSpPr>
        <p:spPr>
          <a:xfrm>
            <a:off x="6975360" y="5557680"/>
            <a:ext cx="8334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9265" descr=""/>
          <p:cNvPicPr/>
          <p:nvPr/>
        </p:nvPicPr>
        <p:blipFill>
          <a:blip r:embed="rId1"/>
          <a:stretch/>
        </p:blipFill>
        <p:spPr>
          <a:xfrm>
            <a:off x="360360" y="1009800"/>
            <a:ext cx="8524800" cy="400032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9266"/>
          <p:cNvSpPr/>
          <p:nvPr/>
        </p:nvSpPr>
        <p:spPr>
          <a:xfrm>
            <a:off x="8259840" y="1890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9267"/>
          <p:cNvSpPr/>
          <p:nvPr/>
        </p:nvSpPr>
        <p:spPr>
          <a:xfrm>
            <a:off x="8332920" y="2692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9268"/>
          <p:cNvSpPr/>
          <p:nvPr/>
        </p:nvSpPr>
        <p:spPr>
          <a:xfrm>
            <a:off x="8373960" y="4254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8241" descr=""/>
          <p:cNvPicPr/>
          <p:nvPr/>
        </p:nvPicPr>
        <p:blipFill>
          <a:blip r:embed="rId1"/>
          <a:stretch/>
        </p:blipFill>
        <p:spPr>
          <a:xfrm>
            <a:off x="398520" y="771480"/>
            <a:ext cx="8524800" cy="333396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138242" descr=""/>
          <p:cNvPicPr/>
          <p:nvPr/>
        </p:nvPicPr>
        <p:blipFill>
          <a:blip r:embed="rId2"/>
          <a:stretch/>
        </p:blipFill>
        <p:spPr>
          <a:xfrm>
            <a:off x="425520" y="4108320"/>
            <a:ext cx="6286320" cy="2629080"/>
          </a:xfrm>
          <a:prstGeom prst="rect">
            <a:avLst/>
          </a:prstGeom>
          <a:ln w="0">
            <a:noFill/>
          </a:ln>
        </p:spPr>
      </p:pic>
      <p:sp>
        <p:nvSpPr>
          <p:cNvPr id="1357" name="矩形 138243"/>
          <p:cNvSpPr/>
          <p:nvPr/>
        </p:nvSpPr>
        <p:spPr>
          <a:xfrm>
            <a:off x="8353440" y="750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4"/>
          <p:cNvSpPr/>
          <p:nvPr/>
        </p:nvSpPr>
        <p:spPr>
          <a:xfrm>
            <a:off x="6575400" y="2712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5"/>
          <p:cNvSpPr/>
          <p:nvPr/>
        </p:nvSpPr>
        <p:spPr>
          <a:xfrm>
            <a:off x="6770520" y="3308400"/>
            <a:ext cx="782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6"/>
          <p:cNvSpPr/>
          <p:nvPr/>
        </p:nvSpPr>
        <p:spPr>
          <a:xfrm>
            <a:off x="2763720" y="3708360"/>
            <a:ext cx="782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7"/>
          <p:cNvSpPr/>
          <p:nvPr/>
        </p:nvSpPr>
        <p:spPr>
          <a:xfrm>
            <a:off x="3441600" y="4572000"/>
            <a:ext cx="147168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48"/>
          <p:cNvSpPr/>
          <p:nvPr/>
        </p:nvSpPr>
        <p:spPr>
          <a:xfrm>
            <a:off x="3411360" y="5240160"/>
            <a:ext cx="782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49"/>
          <p:cNvSpPr/>
          <p:nvPr/>
        </p:nvSpPr>
        <p:spPr>
          <a:xfrm>
            <a:off x="4295880" y="5661000"/>
            <a:ext cx="1090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8250"/>
          <p:cNvSpPr/>
          <p:nvPr/>
        </p:nvSpPr>
        <p:spPr>
          <a:xfrm>
            <a:off x="3997440" y="6122880"/>
            <a:ext cx="9572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8251"/>
          <p:cNvSpPr/>
          <p:nvPr/>
        </p:nvSpPr>
        <p:spPr>
          <a:xfrm>
            <a:off x="5180040" y="6267600"/>
            <a:ext cx="1563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7217" descr=""/>
          <p:cNvPicPr/>
          <p:nvPr/>
        </p:nvPicPr>
        <p:blipFill>
          <a:blip r:embed="rId1"/>
          <a:stretch/>
        </p:blipFill>
        <p:spPr>
          <a:xfrm>
            <a:off x="349200" y="898560"/>
            <a:ext cx="8039160" cy="394344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7218"/>
          <p:cNvSpPr/>
          <p:nvPr/>
        </p:nvSpPr>
        <p:spPr>
          <a:xfrm>
            <a:off x="7674120" y="21589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136193" descr=""/>
          <p:cNvPicPr/>
          <p:nvPr/>
        </p:nvPicPr>
        <p:blipFill>
          <a:blip r:embed="rId1"/>
          <a:stretch/>
        </p:blipFill>
        <p:spPr>
          <a:xfrm>
            <a:off x="353880" y="946080"/>
            <a:ext cx="8182080" cy="3695760"/>
          </a:xfrm>
          <a:prstGeom prst="rect">
            <a:avLst/>
          </a:prstGeom>
          <a:ln w="0">
            <a:noFill/>
          </a:ln>
        </p:spPr>
      </p:pic>
      <p:sp>
        <p:nvSpPr>
          <p:cNvPr id="1369" name="矩形 136194"/>
          <p:cNvSpPr/>
          <p:nvPr/>
        </p:nvSpPr>
        <p:spPr>
          <a:xfrm>
            <a:off x="7694640" y="966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5169" descr=""/>
          <p:cNvPicPr/>
          <p:nvPr/>
        </p:nvPicPr>
        <p:blipFill>
          <a:blip r:embed="rId1"/>
          <a:stretch/>
        </p:blipFill>
        <p:spPr>
          <a:xfrm>
            <a:off x="255600" y="820800"/>
            <a:ext cx="8124840" cy="511488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5170"/>
          <p:cNvSpPr/>
          <p:nvPr/>
        </p:nvSpPr>
        <p:spPr>
          <a:xfrm>
            <a:off x="7561440" y="2465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1"/>
          <p:cNvSpPr/>
          <p:nvPr/>
        </p:nvSpPr>
        <p:spPr>
          <a:xfrm>
            <a:off x="4510080" y="477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2"/>
          <p:cNvSpPr/>
          <p:nvPr/>
        </p:nvSpPr>
        <p:spPr>
          <a:xfrm>
            <a:off x="7089840" y="477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3"/>
          <p:cNvSpPr/>
          <p:nvPr/>
        </p:nvSpPr>
        <p:spPr>
          <a:xfrm>
            <a:off x="2558880" y="5548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5174"/>
          <p:cNvSpPr/>
          <p:nvPr/>
        </p:nvSpPr>
        <p:spPr>
          <a:xfrm>
            <a:off x="5321160" y="5518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4145" descr=""/>
          <p:cNvPicPr/>
          <p:nvPr/>
        </p:nvPicPr>
        <p:blipFill>
          <a:blip r:embed="rId1"/>
          <a:stretch/>
        </p:blipFill>
        <p:spPr>
          <a:xfrm>
            <a:off x="146160" y="901800"/>
            <a:ext cx="8115120" cy="380988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4146"/>
          <p:cNvSpPr/>
          <p:nvPr/>
        </p:nvSpPr>
        <p:spPr>
          <a:xfrm>
            <a:off x="4788000" y="2333520"/>
            <a:ext cx="493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7"/>
          <p:cNvSpPr/>
          <p:nvPr/>
        </p:nvSpPr>
        <p:spPr>
          <a:xfrm>
            <a:off x="5886360" y="2333520"/>
            <a:ext cx="493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8"/>
          <p:cNvSpPr/>
          <p:nvPr/>
        </p:nvSpPr>
        <p:spPr>
          <a:xfrm>
            <a:off x="7068960" y="2333520"/>
            <a:ext cx="790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4149"/>
          <p:cNvSpPr/>
          <p:nvPr/>
        </p:nvSpPr>
        <p:spPr>
          <a:xfrm>
            <a:off x="6113520" y="3679920"/>
            <a:ext cx="677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4150"/>
          <p:cNvSpPr/>
          <p:nvPr/>
        </p:nvSpPr>
        <p:spPr>
          <a:xfrm>
            <a:off x="7223040" y="3679920"/>
            <a:ext cx="677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4151"/>
          <p:cNvSpPr/>
          <p:nvPr/>
        </p:nvSpPr>
        <p:spPr>
          <a:xfrm>
            <a:off x="1674720" y="4275000"/>
            <a:ext cx="6778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图片 133121" descr=""/>
          <p:cNvPicPr/>
          <p:nvPr/>
        </p:nvPicPr>
        <p:blipFill>
          <a:blip r:embed="rId1"/>
          <a:stretch/>
        </p:blipFill>
        <p:spPr>
          <a:xfrm>
            <a:off x="168120" y="844560"/>
            <a:ext cx="8020080" cy="3924360"/>
          </a:xfrm>
          <a:prstGeom prst="rect">
            <a:avLst/>
          </a:prstGeom>
          <a:ln w="0">
            <a:noFill/>
          </a:ln>
        </p:spPr>
      </p:pic>
      <p:sp>
        <p:nvSpPr>
          <p:cNvPr id="1384" name="矩形 133122"/>
          <p:cNvSpPr/>
          <p:nvPr/>
        </p:nvSpPr>
        <p:spPr>
          <a:xfrm>
            <a:off x="800280" y="4314960"/>
            <a:ext cx="22208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3123"/>
          <p:cNvSpPr/>
          <p:nvPr/>
        </p:nvSpPr>
        <p:spPr>
          <a:xfrm>
            <a:off x="1139760" y="2774880"/>
            <a:ext cx="1746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3124"/>
          <p:cNvSpPr/>
          <p:nvPr/>
        </p:nvSpPr>
        <p:spPr>
          <a:xfrm>
            <a:off x="1325520" y="2611440"/>
            <a:ext cx="28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3125"/>
          <p:cNvSpPr/>
          <p:nvPr/>
        </p:nvSpPr>
        <p:spPr>
          <a:xfrm>
            <a:off x="1652760" y="2711520"/>
            <a:ext cx="525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3126"/>
          <p:cNvSpPr/>
          <p:nvPr/>
        </p:nvSpPr>
        <p:spPr>
          <a:xfrm>
            <a:off x="2371680" y="2722680"/>
            <a:ext cx="803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3127"/>
          <p:cNvSpPr/>
          <p:nvPr/>
        </p:nvSpPr>
        <p:spPr>
          <a:xfrm>
            <a:off x="3348000" y="2711520"/>
            <a:ext cx="525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椭圆 133129"/>
          <p:cNvSpPr/>
          <p:nvPr/>
        </p:nvSpPr>
        <p:spPr>
          <a:xfrm>
            <a:off x="4665600" y="2637000"/>
            <a:ext cx="1027080" cy="41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3130"/>
          <p:cNvSpPr/>
          <p:nvPr/>
        </p:nvSpPr>
        <p:spPr>
          <a:xfrm>
            <a:off x="6049800" y="2681280"/>
            <a:ext cx="567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3131"/>
          <p:cNvSpPr/>
          <p:nvPr/>
        </p:nvSpPr>
        <p:spPr>
          <a:xfrm>
            <a:off x="6913440" y="2610000"/>
            <a:ext cx="95724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01:38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